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77A-5618-42C3-87A2-B652E1DA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515-EBEB-424F-A64A-B07401E3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D21-971E-4398-8501-F6058076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E96-4B61-411A-8F1A-61EB955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555-EA9E-4E4E-B930-219F818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146-A261-425E-97F0-489FAC70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313-A271-4D86-9192-13AA665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3FD-AC53-47FE-99D2-DB468B1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CCA-9E72-41F0-B877-7D808EF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6E2-5299-4F89-8DF9-D84ED99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359-38C8-45E6-AFE1-0713209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640-52E3-4268-829A-AE42B38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E983E-BC7A-49DD-8389-4B7027C2FB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51673-F3B2-46E4-835D-7A823E307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rcRect l="69522" t="0" r="0" b="63926"/>
          <a:stretch/>
        </p:blipFill>
        <p:spPr>
          <a:xfrm>
            <a:off x="2602080" y="3741840"/>
            <a:ext cx="1471320" cy="174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way will this box mo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be 4"/>
          <p:cNvSpPr/>
          <p:nvPr/>
        </p:nvSpPr>
        <p:spPr>
          <a:xfrm>
            <a:off x="3670200" y="3429000"/>
            <a:ext cx="2044800" cy="18064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1 Force Class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ce is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ush or a pu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lanced forces – forces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pposite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direction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qual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siz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forces on an object are balanced, the objec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es not mo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balanced forces – forces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l or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opposite 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forces on an object are unbalanced, the object moves in the direction of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greater push or pull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3:58:09Z</dcterms:created>
  <dc:creator>Caroline Roth</dc:creator>
  <dc:description/>
  <dc:language>en-US</dc:language>
  <cp:lastModifiedBy>Caroline Roth</cp:lastModifiedBy>
  <dcterms:modified xsi:type="dcterms:W3CDTF">2011-02-16T04:23:14Z</dcterms:modified>
  <cp:revision>1</cp:revision>
  <dc:subject/>
  <dc:title>Do Now</dc:title>
</cp:coreProperties>
</file>